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861-6508-479F-B063-3010A3F2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706-AB82-4552-AEA4-8A3FD238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EE7B1-F27B-4A01-A52F-7904235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0C203-A503-4BBC-A6FF-BF5D01ED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8BFA8-E15F-43BD-B2F9-3F50E87A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00892-3223-4586-978D-E4A5045E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4E436-B33A-4814-8CE0-0192DBE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64DE3-2AC1-4A47-AE78-033E448E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A278D-0340-4177-A281-D159A88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E0B7C-C9CC-4CE0-8A6C-28E4264B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64BC9-4DEE-4C61-A3AA-09BC916A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EBDB7-F6FF-4FEE-9971-302016B8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824-F956-46A0-A4BB-89470772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B7EB9-2364-4A94-916F-309FC412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7E220-A70A-4876-AED1-E87C5C5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102F2-FFCF-4DED-9BAC-55962339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34716-61B2-401D-9BC3-CA44F0B7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8B6E7-F6B1-4941-A60E-A41EB9A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57AE0-D73E-4EA4-AE2B-C37A9C9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A4A9A-1C1C-4838-9144-6AE6ECE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35A05-B7C3-450B-8640-064BCB9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3F7CD-18C9-45D8-B02F-89E0F152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444FF-D380-40F6-B761-3584E0EE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513-F8E0-458C-89C1-5B1B3B9F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0FE6E-C5DD-4FE6-A311-86F1BD33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23CE2-2C80-4C49-8AA3-39181414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699B3-4779-4147-B746-7247B190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56D2C-E80D-4C53-AC45-67A766D0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C9A54-DE83-4B3E-A4F7-EA56894D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8865E-709B-4245-96FE-D732EFE4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A915-50D8-46E0-9857-D5B0B345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F55D0-16F7-4E5D-B4AF-3F27AFC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3CC40-CC2A-4329-801C-4B47D27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15DBE-9AD5-4E7E-9316-DE3C9FB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1B91-E0D9-4053-8CFC-6378BEA1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4E028-6E41-4D22-83E2-94917D22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AB166-796D-443C-9596-04D564CD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825D3-F983-4D93-8505-8B13DF22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B76A0-9D2A-4981-919D-54137D67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F32C0-1FE0-4F5F-A6F3-EA36F785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9D39D-3FAB-4642-8C0A-491EADC4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8F848-87B8-4063-8264-055BD1D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439FA-B8E5-460F-B986-5C97E970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20279-C9C3-4E23-9A4C-D578ADEA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3EEEA-BDF0-4C52-8740-286B0CE9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3E4-181A-441E-929C-84217062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E76D6-6B22-443B-9EF2-A0C9822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353CC-B9E7-416F-AA62-735AB95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A4EBF-D90C-4AC4-AA86-6B6065CA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D7A09-4F11-4515-95AA-57A35CAD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6DC8C-E7F6-433B-B673-0C287E24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9000C-3258-468B-B970-E73DC3D1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A141D-6217-408F-A300-5035870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A1ED9-0AC1-45B5-94F5-5E190348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95497-7584-48BB-B60C-3E01FF19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14213-14B6-40E8-B0A4-113A36A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A8EB-0E9B-41EF-8506-9CF93E36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51587-F482-4254-9965-DF12D92F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7D420-94B3-49AD-9B2B-A2A0E407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23F9E-EA66-4E72-8817-48EF9F1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4D9B8-6A1D-4789-9B9D-CCF4D745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9BFA7-6240-4C62-AC10-87A9EF41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AA4F7-CB8E-4CF6-BBC7-A30AB2C9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808BA-A398-4515-90E1-AD2B92EE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650C3-9B53-4C4E-9EB4-23898783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C1A0B-8709-4FD8-A748-41AC184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96C83-0225-4314-A3F9-D03BD090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B64E-E0FA-4ED4-859A-1C96AF52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CF050-E2B8-4AC9-91DD-5FBB7C38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450B3-D264-4496-A8A2-FC4432F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A8F2C-5E0E-480B-AF18-7C864CBD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F89D5-D63F-439D-8AE4-BB20A7D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76E9C-1D9C-42BA-AB9F-69EC4F6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B77A5-0365-4184-887D-5C3E51D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DB442-A373-4F7A-A59A-FA1CB14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9B724-EBD6-4642-80C1-A9D185BA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7A37E-8C2D-40A2-B857-B3F2AE3F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C1872-3C05-4ACB-9C8D-EBAE3919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513-FF01-4725-809D-B7D5C057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926D3-F05C-486B-93CF-5AF835AA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EDDF5-72CC-4169-91AB-233884FE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101CD-2350-4DAB-88D4-B62A7A3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FAACC-3DF4-4F04-92B1-6222EA66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22CE4-A01D-4C74-A877-BE0ACA7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24CAB-BD62-488B-B051-4BBC5DEC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CD985-8A0F-4E04-9F59-10FD0A54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C1D31-FED8-4DDB-81EF-CC30B47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0EDD2-DC4C-41F9-AE5D-725F5CA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1B4DC-26E4-4807-9E66-A4CC0FF2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4237-4D8C-45D6-8349-D490AFDF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81669-E2ED-46AC-B83E-80F3E151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74895-4F32-47FA-82F5-77B68C54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196DD-29A9-4721-979F-AABC6A7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F8317-0DC1-4601-9294-E11AC942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B3195-F94E-40D5-A18E-55235BD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D09E3-AF32-40A3-B6A0-576534A7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120DD0-E7A9-4AF3-BD7A-C331533C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FBC25-6CF4-4D6D-A209-B57FB10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03ED3-B1D6-4CB0-BAC1-0351B6C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7649E-1923-4620-99F5-8690769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A16-42C2-4980-B63E-BAD8706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42606-0482-4737-8AA6-D3482135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620F9-2BC4-49F4-8ED5-30C5047F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F04EF-9F45-4162-BFF8-BD37B1DB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0D2C6-4F34-4EE2-8FE2-99ACD1EA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A4646-73E0-4176-A35C-5E086CC8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DF8F3-9357-41D5-86E2-FD0F31E4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97329-F940-4212-8E13-98309BC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B1C8F-18C3-4D03-836A-46F3DC8B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7B1004-692D-4683-B29B-C52A72E7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A91D5-8432-41C6-BE86-4CD89F3C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097-C650-4B5D-9035-92E8D21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9A35-122F-45F3-865E-D7702DA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B7E72-8D1C-48C5-BF9C-3F41FFE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3FB76-FACE-4D74-B986-1EEF770B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46C12-C710-460A-88A4-D4F12C5B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A3802-3E58-42CA-97F1-F84522F9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D4794-B3CF-42E5-BEC9-5FC09193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F8FF0-8F68-463B-9FA5-A52C2853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D1BC3-56A8-43A5-8566-0C40E45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18E55-736B-4633-8A42-6E0A1461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11451-8E12-4DDC-AE7D-370D11B0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F52D9C-CCE8-434F-8951-BDDD1A4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0779-3DDF-42DC-A973-D5434E5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7CEDB-1206-44A5-B725-BA16BA68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80C5E-BCF3-49BE-A633-0716194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1B81C-8853-4C16-BA2C-0B40716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A3F0A-84A3-497E-A151-D69EB1BE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9C7F0-EEB9-4FB7-BB3A-FEF7FBDD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1FB59C-A415-4482-A8FC-9A1AC9D3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CFE03-D492-4E67-9B70-255867AB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DD73C-CE49-44C6-9972-78B8A684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71C96-29E8-4491-A6CC-C10EEE73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57D1D-8596-4DE3-88D6-F94B53F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6777-20E2-4705-B5E5-9A1C3FC7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1BD00-0413-46D5-9EEB-11AD358D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FE958-C28F-4FD9-90C3-520FD4EB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B98F0-721F-412B-93D5-3FC379FC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ECCC0C-2D71-4986-B933-58302CFE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4131B-726F-45A9-80FD-9B659E6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166E6-1B22-4E41-9E59-CE7C8D2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605FB-83BF-4D9C-A53A-06617369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641F4-5BEF-4C07-B89F-B6D527A5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C71CD-05AE-4F39-9553-A42CA358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787B4-726D-431A-9145-983AA94F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1A5-00FD-4A07-81F0-0D49AFAA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179B0-FE70-4AC4-BF59-16FB95EF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CBFBE-0A37-4187-9040-3A578502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FBD97-825A-4125-8798-5CE89DEF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83EBD-682A-4A44-89C2-F5A59564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C60F2-7CC3-4D74-86C5-5EDE0C98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D979D-8C92-4A94-AB64-3550FA2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B6124-FF9A-4B68-9E2B-822E3C43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72C45-A928-452B-9C7D-AF1CC9CB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1264F-92C2-44EE-A1B5-B8FD9171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3AA0CF-DAA0-4C39-859D-72CD2E9D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21BA-FCA2-4BA2-97A2-814EFB94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9036F-2A5B-4616-A00B-91DF9924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9D6D4F-8197-47BA-98E6-0AF1F341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02918-D5F1-4C64-B8C2-F978C388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8A4ED-9F19-4421-AC1D-E865AB2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917077-BC96-45DB-B8A8-936FDFE9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11DDF-197F-489C-9862-66B4E4A7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6E8325-A9EB-4AD7-8F78-282336BD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9AE5B-D64B-41C2-80DB-BA400F89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67736-F2A4-48F0-9DF1-99C9B80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D1891-5016-45A3-B977-F35C491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5A2D-B172-4FC9-B14D-0FCF0069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7C3426-78F4-4505-8B10-18CE122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132E7-F0FE-4CD4-9626-CB0B12D6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589AE-74AB-4CE9-AB9E-F61D631C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8B2DE-B1E0-4CD5-A71C-00D2F46C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CED2-4BBA-4C50-8279-A6E0A73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65F6-9C55-4EBD-8878-C11F836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EDCC-4956-40B6-8CD8-62AFD0A2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B95-4E68-4013-A400-75903936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32A0-6A03-4D7F-95F3-767D57EF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F530-A48C-45ED-83FF-5EF5A77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8A4A-4B7F-46A2-A8CB-3F18913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6C52-EB57-4F7D-B4E8-27132D8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7618-5AD4-45E6-8252-1AA8FA6F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C82E-FC69-4223-9E07-98CBF648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948C-E940-41A0-9455-F3417256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3CB6-4F09-48E7-998C-CA07DEC9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06BB-1144-4FC9-8E50-0127F326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EBA4-7D8D-43B3-B4DB-2D9D3C89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047-F958-445C-B606-CEB950EC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A8A2-7875-4324-88EE-E2873E57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80EF-8F29-4199-8B49-AE176A0E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56B4-1728-40BB-8678-67AC1E89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6436-8780-472F-995F-61364E35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C436-2187-490D-9429-27394722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7AD9-8AD7-47C9-9A6E-3EDDC01E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9FBE-C820-434D-B730-B2F72CA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BB5B-8B4E-4DC1-877D-11FEAF6B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6BD6-C055-4ADD-AD91-98054E94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6042-8E16-4051-A1A3-C21F5139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7C2-3A18-4403-B547-0B1CED6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AFCE-9E7A-43F1-9932-817F0514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7E49-E4C9-450E-81A4-7F6B109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BEF7-DECD-4F13-B667-EC1642E3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563E-DED5-4A81-BBFE-0021060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8227C-6D72-469C-8B91-76DD6EF5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35FC-E24E-4377-8F6F-53ED3B0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47E4-1F19-40E9-AEE4-33F0007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A068-894B-4C1B-AC63-184CF2EE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CAB1-8FD7-420B-A3BD-2E8BE53E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42AC-243A-4CCC-8A47-16387E16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2D1-0A9D-4A29-9842-5B096AA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D9C3-6960-457A-86CA-FF207BDF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85B3-5ABD-420B-934A-0966AA17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5944-31D9-403F-900C-77C0681C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46E09-5F0C-4FB9-9733-EA51761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83BC-AC7F-4141-B319-36C95EFC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8F40-0283-4D34-985D-498886AA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9FA02-C06E-406F-9493-31219395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5C46-C111-4EF8-9944-EAAD7CA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E776-8D6C-49FF-932B-59EC416E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DB46-755A-458D-8539-629F748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EF8-E357-4DA2-8D47-E6454FC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13FB-C644-4060-94A3-B67A7BE2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789C-39F3-42E9-BA56-6D22F27C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635A-A4B2-4B4E-98F0-E1A98E38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2DFE-4F82-455D-99DE-984F6A1F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926A-FADB-47D1-920C-F1B2B4FF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0E45-3676-4B23-9F78-C592721F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8A093-9CC3-4954-9F3A-B60D8BA0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E303-0378-464C-A004-5CC1C1E7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23520-E2CF-4B8E-A786-AE8C462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3550-C4BF-4EC0-9E7C-22A9EB5E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03F-69A9-40D3-8BC9-27715FAF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B1675-5591-4EF6-BB06-44D6558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8FA3-4AC1-4257-A2FC-4D98FC2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9D68B-9DFC-4515-80B1-42510299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7AB3-1633-412E-885C-6C120035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1686F-B6C4-4677-9713-377E4ADB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29938-84E1-4A85-B547-E8CAA8AE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7EACD-3D5B-49B8-ACB8-9938E4B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73EFD-C101-4794-A4A4-2D2784F1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7F1ED-A7F7-4F51-AA37-574B682C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58FA3-F6A3-41E3-A63B-F3590BF5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ACF-F782-4FAF-BC70-5EE39A1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FE9C-55AF-4696-8F03-7B8FAB4D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09238-AC12-472D-AB4C-80DBE1E5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8600-3721-4970-9639-67AAFA25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937E7-388C-46F4-B2BA-B91504D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15946-759E-4E63-9BEF-CB2D23AD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BB76B-A105-4E53-B6C4-D75D6CE1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8A2E-D9B4-4FBB-9EA9-351EB610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4E0C1-FD0F-4584-B4C6-02F50E25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14D68-98D9-4F1B-91A7-C0CC009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58EFC-99DC-43D2-9AF0-6E1A2346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BF65-2F89-41B3-901C-91682EB9C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C89-70D8-4CAB-90AD-4D2A02128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566F-7DF4-404F-AC7E-DD01253C9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5504-0738-4472-B027-D24F4548C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9BC6-C1A8-441C-BC80-564CF091C0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C291-2504-4213-939A-6E3BE8E04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26A4-A4F7-4EE2-A931-B64332218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9D22-D112-42A2-8898-39FB83B35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E8DD-BCB5-4E8B-A74D-BED75444B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CA5-8301-4605-B11A-CC561C4919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0B7E-4F0B-456F-8827-3BFFFEBA69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8254-FBFC-4028-9ADD-D8723F8CB1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3388-1F49-4823-9A96-EEC4718730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3D7-E183-476C-B487-17E6DDBE3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580-3867-40C2-B74D-3B479D6E5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296E-5365-4163-BF93-A837E8828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F880-AC31-4373-B63D-00BB66738E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0C1-361A-4347-8DD9-0F1633176E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DD8B-E561-4846-BB32-CCE3B92E2C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418B-DA9D-4AB5-85A1-A90E293A34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3E11-D2B6-4B01-9534-16A499ADC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6100-84C1-49DF-A317-6D72118E9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30EB-1874-48CA-8E5B-117F2291E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BA22-8507-48F5-A632-59C39C573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ADF-06AC-496E-AE75-0B493DD341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9ECE-8F5C-40C9-99E7-EFD1E134C9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4A57-F2CB-43E5-9CD9-D79B953C52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7ACF-8EF5-48FF-8213-D79BB3BC10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A4E2-DE1E-4DAC-805C-C97F5CA91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A42D-FD2A-4DF8-80FD-9D5816974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8E89-8AD4-4C07-BB0A-7F95DFB248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C422-2EC3-4D7D-95E0-C3847AD77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A59-7A75-41FD-B874-99DF76130E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9E26-CF31-43E8-A77C-31D259006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AF79-D9C4-475E-8CE0-86865406FD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C4C2-6EED-4B77-A483-644A3B1BB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EA90-6BB7-4F70-8709-EA0E303F0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3891-307F-4C16-AE14-76129BDB4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6341-AC9A-42E5-83AE-7C9F67340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1DCF-1502-4C98-AF0E-9E4979197E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19360" y="2924280"/>
            <a:ext cx="57052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638280" y="1843200"/>
            <a:ext cx="7867440" cy="3171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208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1181160" y="907920"/>
            <a:ext cx="6781680" cy="222912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8610" descr=""/>
          <p:cNvPicPr/>
          <p:nvPr/>
        </p:nvPicPr>
        <p:blipFill>
          <a:blip r:embed="rId2"/>
          <a:stretch/>
        </p:blipFill>
        <p:spPr>
          <a:xfrm>
            <a:off x="723960" y="3676680"/>
            <a:ext cx="7696080" cy="2200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356000" y="1154160"/>
            <a:ext cx="576360" cy="7621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24720" y="1154160"/>
            <a:ext cx="576360" cy="7621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356000" y="2003400"/>
            <a:ext cx="576360" cy="762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308720" y="2017800"/>
            <a:ext cx="576360" cy="7617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2079720" y="3933720"/>
            <a:ext cx="576000" cy="7621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4859280" y="3933720"/>
            <a:ext cx="576360" cy="7621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7812000" y="3933720"/>
            <a:ext cx="576360" cy="7621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2124000" y="4753080"/>
            <a:ext cx="576360" cy="7617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062680" y="4795920"/>
            <a:ext cx="576000" cy="7617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013600" y="4795920"/>
            <a:ext cx="576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2080" y="1114560"/>
            <a:ext cx="8619840" cy="4628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050920" y="41641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484360" y="52722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484360" y="46958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33240" y="1495440"/>
            <a:ext cx="7877520" cy="3867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4427640" y="203184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12400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304920" y="942840"/>
            <a:ext cx="8534160" cy="4972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667640" y="220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7667640" y="3213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7596360" y="537372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576360" y="2552760"/>
            <a:ext cx="7991280" cy="1752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7365960" y="36734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490680" y="844560"/>
            <a:ext cx="8162640" cy="5753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130400" y="4508640"/>
            <a:ext cx="3025800" cy="865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826920" y="5459400"/>
            <a:ext cx="23767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900000" y="6035760"/>
            <a:ext cx="237672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859280" y="4479840"/>
            <a:ext cx="3673440" cy="865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4714920" y="5445000"/>
            <a:ext cx="331308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4788000" y="6021360"/>
            <a:ext cx="3313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314280" y="1414440"/>
            <a:ext cx="8515440" cy="4029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258920" y="2708280"/>
            <a:ext cx="5545080" cy="936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597708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39640" y="4292640"/>
            <a:ext cx="597708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84360" y="4811760"/>
            <a:ext cx="7127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524800" cy="61052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71640" y="3127320"/>
            <a:ext cx="5256000" cy="86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745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11280" y="4610160"/>
            <a:ext cx="374472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55640" y="517212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611280" y="5718240"/>
            <a:ext cx="82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539640" y="6323040"/>
            <a:ext cx="8282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33280" y="741240"/>
            <a:ext cx="8677440" cy="6000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826920" y="3097080"/>
            <a:ext cx="583272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7201080" cy="865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900000" y="4738680"/>
            <a:ext cx="7201080" cy="8650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84360" y="5675400"/>
            <a:ext cx="583236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684360" y="6237360"/>
            <a:ext cx="6119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5:3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